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drumroll.wav" ContentType="audio/x-wav"/>
  <Override PartName="/ppt/media/laser.wav" ContentType="audio/x-wav"/>
  <Override PartName="/ppt/media/whoosh.wav" ContentType="audio/x-wav"/>
  <Override PartName="/ppt/media/clap.wav" ContentType="audio/x-wav"/>
  <Override PartName="/ppt/media/image2.wmf" ContentType="image/x-wmf"/>
  <Override PartName="/ppt/media/type.wav" ContentType="audio/x-wav"/>
  <Override PartName="/ppt/media/camera.wav" ContentType="audio/x-wav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710-1A86-4BA1-8C75-2DBE75FD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C5C4-E5F2-4DFF-9653-8E7B30CA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8E0-335E-4E6D-8D1E-A4D0189E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F3C-A1FB-4A43-AD6F-81A887D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0C1-D876-46AA-98AD-303B608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3CF-61FF-448D-9E55-EEA0B21B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F050-DA2F-4BA0-A9E7-5756F04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6154-1BDB-4AE4-855D-9524F944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C072-B7A5-401E-B77A-6C9EDD7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CBAB-3054-483C-AD74-32D0A7B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008E-CFC2-4B79-B8EF-BBD8C705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A35-34C4-4C90-868F-6A7D299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88FB-26B0-4D77-9EED-CD23301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B86-072F-4618-9674-D697E84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682D-CE5F-4188-8F95-31851DB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533-2417-46F7-8015-F56C7461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F2A3-8158-4567-8BEF-4E1018E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E0D-7C12-439F-BE47-EF573046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316A-CA08-4680-A61F-A05F27A5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285-2FFB-4F43-90C7-FE72392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047-8005-453E-8ECC-C7E038C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B3C-6215-49D6-B420-514DFA2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37A-0BCD-4618-AE5D-A72211F5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AAB-31A8-4627-998C-D41D121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8C7-588B-4AA4-A319-E0AE7AC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628-15A1-4469-9B2A-5A4C346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7E7-33D7-49A1-A588-CF339F0F6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3237-23BF-40F5-BC8D-F7D9DCAD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nglish Not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mplete Subjects and Predicat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ete 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all the words that name who or what the sentence is about. 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ple 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in word or words in the complet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The empty glass fell onto the floor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Gla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imple subject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The empty gla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complete su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lete 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all the words that tell what the subject of the sentence is or does. 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mple 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ain word or words in the complete pred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The empty glass fell onto the floor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F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imple predicate.  </a:t>
            </a:r>
            <a:r>
              <a:rPr b="0" i="1" lang="en-US" sz="2200" spc="-1" strike="noStrike">
                <a:solidFill>
                  <a:srgbClr val="cc9900"/>
                </a:solidFill>
                <a:latin typeface="Arial"/>
              </a:rPr>
              <a:t>Fell onto the flo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complete predic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s Practice!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ky-colored glass is used to make light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inds of glass do not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kinds of glass can be heated to very high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imple Subject: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Complete Subjects:  Milky-colored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ome kinds of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Other kinds of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ntences and Fragm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expresses a complete thought.  A sentence names someone or something and tells what that person or thing is or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am went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o not express a complete th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pent hours in gift shops.  (Who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 Practice!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ntence or No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visited many plac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ngs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change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d you get them righ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visited many places this year.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the house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ra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ings by hand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ra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change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ves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movies.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Bookman Old Style"/>
              </a:rPr>
              <a:t>Four Kinds of Sentenc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eclarative-  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terrogative- 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s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mperative-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a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xclamatory-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strong feeling              or e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" y="220968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4076640" y="2371680"/>
            <a:ext cx="3695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Reme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forget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ntence always begins with a capital letter and ends with an end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4076640" y="2179800"/>
            <a:ext cx="3695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ts Practice!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andy do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get the paper off the p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you did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ol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d you get them right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andy do you lik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? (interrog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get the paper off the porch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 (impe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you did grea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!                (exclam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watch old movie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         (declar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ubjects and Predicates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part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 tells you who or what the sentence i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y friend Mark loves to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who the sentence i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ling part of th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ate tells you what the subject is doing or has already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y fri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loves to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edicate of th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6:20:05Z</dcterms:created>
  <dc:creator>Melody Shaw</dc:creator>
  <dc:description/>
  <dc:language>en-US</dc:language>
  <cp:lastModifiedBy>lkeeler</cp:lastModifiedBy>
  <dcterms:modified xsi:type="dcterms:W3CDTF">2010-09-15T12:23:47Z</dcterms:modified>
  <cp:revision>14</cp:revision>
  <dc:subject/>
  <dc:title>Four Kinds of Sentences</dc:title>
</cp:coreProperties>
</file>